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96D-8974-4582-BFF4-17F95F83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30A-8B8F-4413-9CA8-1AB87940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C5D-9A73-41BD-A1E2-4337727F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7A5B-C1FC-4F93-BD48-561FAFC6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97E-9BBB-4CA3-9737-E16A7F84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117-0416-4F66-B7B5-DEC67787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FB2-84EA-48FA-AB62-3CF32056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76B-7DBF-47B2-8C04-B7A436EA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08E-17BF-460D-959C-B1929F90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959-11DB-4905-954B-9A1A2E69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DE5-A789-42F7-97C8-B96E03AE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E6D-2C26-4294-A9AA-67935B46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0D90-CCC3-4820-AA04-148BD6FA39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33400">
            <a:off x="-612720" y="1844280"/>
            <a:ext cx="914400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aur egungo etorkin latinoamerikarra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04:26Z</dcterms:created>
  <dc:creator>ik015111zz</dc:creator>
  <dc:description/>
  <dc:language>en-US</dc:language>
  <cp:lastModifiedBy>ik015111zz</cp:lastModifiedBy>
  <dcterms:modified xsi:type="dcterms:W3CDTF">2012-05-11T06:38:55Z</dcterms:modified>
  <cp:revision>2</cp:revision>
  <dc:subject/>
  <dc:title>Diapositiva 1</dc:title>
</cp:coreProperties>
</file>